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400-8A38-485E-BF15-261170A3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62E-AB6B-4A3F-9FFE-160EF0F4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00C-D5F9-47E8-9A87-8D9A8DA5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987-F7A9-4664-8ECF-4A032858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453-2CF0-4E62-BE5C-BA9921EF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BFD-9CC1-46C6-933A-ECFEDE0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11E-FDCB-4292-82DB-066F5758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231-7249-45E4-9AB0-1DBD66AB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CD5-FCB2-4235-A2C2-AE68E078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4C9-7D40-4593-92C3-4EA091BC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DC5-6DEF-481E-B374-A5B9DCE1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6CF-1A32-4541-9AB2-0B94C28F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D733-300E-4304-A4D3-5963CA15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457200"/>
            <a:ext cx="76197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rections to Jenn and Steve's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762120"/>
            <a:ext cx="4962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643 Blue Water Drive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reeport, TX  77541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1240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1240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3200400"/>
            <a:ext cx="838440" cy="6094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r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62000" y="2046600"/>
            <a:ext cx="10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Y 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2819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M 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825000" y="44031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 792/Blue Water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505320"/>
            <a:ext cx="381024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tratton Ridge Road/Main 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South onto FM 523 at Stratton Ridge Dow pl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East onto CR 792/Blue Water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 2.5 miles to Hide-A-Way sub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43 is over the bridge, 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ouse on the l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5383" t="16668" r="14423" b="25642"/>
          <a:stretch/>
        </p:blipFill>
        <p:spPr>
          <a:xfrm>
            <a:off x="5257800" y="4114800"/>
            <a:ext cx="3429000" cy="211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7631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8022600" y="2185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ton Ridge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124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M 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yster Cre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14479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124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60958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f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60199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20:49:58Z</dcterms:created>
  <dc:creator>jbarr</dc:creator>
  <dc:description/>
  <dc:language>en-US</dc:language>
  <cp:lastModifiedBy>sconsilio</cp:lastModifiedBy>
  <dcterms:modified xsi:type="dcterms:W3CDTF">2009-12-09T22:14:54Z</dcterms:modified>
  <cp:revision>10</cp:revision>
  <dc:subject/>
  <dc:title>Slide 1</dc:title>
</cp:coreProperties>
</file>